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2F231-17BE-4F41-8E5F-1260A4EF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2F73A3-9145-4B73-ACE7-C442468D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2AE87-CFA7-4FDC-8CF2-060A977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96EA8-6F1A-4257-8AB4-553D1F5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9B0FD-C864-4835-A2D7-F5F693F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AE8C1B-541D-47C1-9E2F-4E68425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8BFBF-5178-44F0-B4EB-8C019CB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7D4085-789B-4B50-A68A-905A92EF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6C4FA-A652-415F-99C2-C4690EFF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770AD-E5D5-495D-B634-BAAA6BC9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4BE8C-5763-4F4C-9B8F-21F0A74A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41BACD-5FD0-4C9D-917E-161775DF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C272C-E008-4C94-BE66-BC968A10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5054E-B7DA-49B9-8241-19CC0CBA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E1703C-4250-4A32-8DE6-9B205F2F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912B33-E297-4A66-BA14-AED7114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9A1B1-E994-4897-A057-98F13FF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504A5-AEC5-4FCD-82D1-E1BD0DB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14339-69BA-4098-B50B-E6A03A82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783CD-DBD8-4941-8A09-DBED6E8D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9C534-ABD0-4FBA-9596-D7DB9467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7FE-B7BF-4339-8B68-EA3E6AC2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A2B-A665-4522-9990-9701EC01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F23-985B-496A-A467-9A8EEB7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E6D4D9-A035-45D8-8578-69C8802F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321B6E-56ED-474F-859D-CAB26ADA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62DB3B-95E0-4866-9C22-99101F2D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3CF-BE39-425E-B6E6-4451A366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2B82D5-67E3-4EFA-9240-4EA321DF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AA0401-33BD-4C5D-9E6D-C97D76E6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331233-6DE4-472A-A5A5-DE56CBC4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EDF77-1E10-4274-9FE2-A144290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91274B-55BB-43B3-80DF-FAD92F7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AA0172-5946-4548-A7DD-3A8F857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492B35-1C93-47F4-BAF9-2359D9B4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A03670-2402-4328-AF58-A5171581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D1B001-DE31-41CD-BFFC-EC1FA476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455D0D-CD93-4DEF-A1CE-E145D95D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1D9-C5E1-4870-8859-FAB99472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3DB6B-E0A3-45FD-8C5E-3C849D70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4CC6DC-EA0B-4908-A34F-BA7B07AE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7C21FC-4DA7-41D5-8A65-0BE5D6B6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203D3A-A282-4925-B411-BA1DDB2D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49CC69-0E7D-478B-B9D7-39069851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B75F51-16B3-4D0B-9FEE-49D8D99B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144C45-93F8-41D4-9009-7BC5701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D48726-4222-4CFC-B2C8-EFDF32A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0BFC5C-E059-4454-9480-45C45D26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677F96-22A6-459A-8A53-523BDA19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C5E-8803-46D7-9A9D-0865179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DDBDD3-0013-47C8-96F1-B6B3F04F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C75C41-BBB5-49A1-80B4-9D66F914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7C924E-08F1-453D-8B63-34C3A413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F6AEAB-37F6-4FEF-874B-185AB961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760255-8D00-43F0-8609-20BD921F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7CEC71-8935-4317-A975-8DBDE201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9BEFED-D64A-4847-AC86-E0CB429E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85649C-81EF-49CF-9C98-3FFD625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10D990-1145-45FB-8990-BF5F18A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4A9C64-12FF-4AAE-A227-C5CB5AF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0C9-CDAD-4301-8EAA-AAEBD27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9411B9-B979-4D87-A61E-2CF9D1F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E5555C-192A-4182-AD86-FFCDA36B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2B02D1-7D09-45A4-9713-184D8B2F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FDB0FD-A85D-4F91-9EF8-6C6885D1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B708FB-81E0-433E-8AAD-36C8A4C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480F25-5749-454F-8393-9851FF32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77C85B-9E04-4508-A052-107103DE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79441A-6295-4261-BB15-077A9CA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7F30C7-89FC-483F-B899-497FF631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62CE41-4D0C-4CDE-BF74-FC4C4C0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2F7-DB0C-47BF-B7AE-520596F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D62D07-A0F4-4E1D-A915-CD927D29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98A42C-F9F9-41FE-BAE0-418346A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3B0FD5-79E6-4E8E-91DD-0D9FCCC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ECBAAC-96F7-4043-AF64-CA6C6182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7336D8-1932-4842-BFEF-7A24E00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1A8-1136-467F-A26C-706F86B0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BD7-FDA1-445B-B706-5832187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D7A-90EF-4F63-B541-D6604CC0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43C-B511-43FD-A7DD-E50AB933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2745D-BB9E-4ADD-9883-88D3F40F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B85EF-95EF-49F7-A51D-2BE1EABB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5E9BC-41B7-4901-ABDA-F53C62A8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11F0F-D212-4561-8D6C-A4B61C4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C76B0-1A6C-4AC3-BC0E-7CFB867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FA1BE-7ABA-4EE7-990B-30E2C6B1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2DBF5-E077-4A31-A31D-07EF291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3D17B-7800-4A39-AF8F-970033D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E597C-983E-42C8-A13E-B590F702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D412D-86DF-4D69-A2A0-C6944A8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FE291-152C-453C-AD66-C554FD3D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5596-CBB7-473F-83D5-12DC87AC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70A80-816A-4066-8192-79AAD329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203F7-955D-47D6-9268-A3738A70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84DAF-B3EA-44DC-9567-C9BCBE9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83DF5-2EE8-40C2-A993-76BCA9C5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F95FA-964D-43D4-A8AF-6B7B975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9ADB3-E8C1-4561-B6F4-B2282FBD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7F2FE-7A0D-4FC8-A4F1-42951F5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B9126-1EE3-47EC-82FA-BBE7A79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D17E3-B418-44C7-8D09-9AC0D4F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1419B-CD24-4CB1-876B-B38E0732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857CB-1275-4E50-93C5-E819159E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30865-3606-407D-A10F-077AADBB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06C69-803F-43BA-8CC5-72516AD1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FF5AC-643B-4130-9EE2-8E817EC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8CD03-1BCB-4715-AF6B-08E1147A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E4F9B-25E0-4983-95F7-C107DAE6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84B92-E2F8-45B5-AABD-8021B76E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3D1DC-4C31-42B3-BBD9-811F5A57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54F41-0578-4B96-9FFB-A1BB80C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AFD9A-FA59-4E51-A54C-C70FA78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D8B11-DC6E-4A14-B5C2-A5A5787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1A985-8AD2-486F-ABA7-E5A564C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F6D67-4553-40FC-8D14-BB8A5B22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E5923-B184-40CE-B3AD-F9CE29E1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94330-94A9-47FD-BA8C-26CB1086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8D451-11AF-48A2-9A50-FF3A0D42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33B42-DDF4-401F-8AFF-0231EF36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E15FC-0A11-4D9D-BD38-16A9E92A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375AB-C82B-461E-94DD-84E8897C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B6E10-49DF-429E-B8C2-58327F9D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39A5F-7DB7-4519-96A5-DFD5C4E2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AC638-39E7-45B0-8797-DB0FA3E7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79AD4-3AA8-4423-950C-72DE980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54D91-46D7-49C6-B985-83CCF42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6F7B2-FF75-4A03-B845-C6B4BE07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71595-886A-4E97-9F26-1B2EFFFD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C2737-D829-4CBA-83A4-713E2797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6060A-B518-46E0-8C59-86C0F0DA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826BA-072A-4DC4-902F-C06210F0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83C61-4E04-4858-9A7A-D38D11B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D48A8-503D-4BD5-B770-1CFE487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B3AEB-5389-4060-801A-0D78E777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750F1A-784B-4845-875B-D6CB6D7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8E5A6-9683-4CCB-995D-775E159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8744A-ADF1-410B-8C9B-243EABC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1B20C-4EF2-46C4-AE6F-C11EFE1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81E40-E170-4499-A0D4-01783E72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E72F5-0DEC-4636-AC99-15F90206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7A42EE-BD14-4705-AF26-CF8112A8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646375-E866-4CAF-AF60-203A052F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16F533-2679-4B38-B66C-B06098B8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5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01CD9-A9CC-42DF-A23D-F6969C9332CC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C3091-5C99-40B3-B850-96440CABA391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FA20B-B727-4A36-AF67-EE7C0A49786E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2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4F8FA-5705-4693-B67D-C78D9EECB724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16628-EC9C-43D1-BE21-B9460F1C903A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C0432-E39E-46C4-A273-615CDC2D7AA8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B0458-C851-4EE2-818F-5ED526D99031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646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3EADD-A37B-4655-8DA3-73BBAE17ABF1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E4E68-F66D-4D06-9BDA-1139EDEEF206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692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2008 Brueck and Bru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459C7-E3C5-4A94-9BB0-429DEDF45B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738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2008 Brueck and Bru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2F9D1-3B59-44A4-835A-B3D6921F6D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53386-9220-4BAE-A6DB-B5619401A9DA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A72C6-E445-44AA-9268-E4A0D267F5BF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22B1B-D2C4-49FE-B5F8-B4BF0CC2240F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5D937-28C3-4023-9B08-2BD25D38B093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C46F3-DCC3-451A-8339-965FB7396E21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1D423-8E4A-42E8-99EE-CCE710995ECD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6224C-E53F-41BD-B2CD-D71B8161753A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231" name="Straight Connector 9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EB452-F72F-4B84-A2C1-F40FF944BAA7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83D6D-CF98-401A-8C46-900B5067D17B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FE7D4-F31B-4CD9-9370-2E4E7658A7EF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ACC09-A86F-44BD-A900-2B6B83662070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5467A-8B9C-4AE3-BB53-D4CFC38FB2DD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B552C-A27A-4F65-9A9B-10933FE31601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B91C7-52B7-46A3-B958-EFF215254D14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E6354-CB93-4654-8738-B09CFBDDE38E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mportant Word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2893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entury Gothic"/>
              <a:ea typeface="Arial"/>
            </a:endParaRPr>
          </a:p>
        </p:txBody>
      </p:sp>
      <p:pic>
        <p:nvPicPr>
          <p:cNvPr id="783" name="Picture 3" descr="11881628-566x849.jpg"/>
          <p:cNvPicPr/>
          <p:nvPr/>
        </p:nvPicPr>
        <p:blipFill>
          <a:blip r:embed="rId1"/>
          <a:stretch/>
        </p:blipFill>
        <p:spPr>
          <a:xfrm>
            <a:off x="1903320" y="457200"/>
            <a:ext cx="2206800" cy="14716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9369913-566x848.jpg"/>
          <p:cNvPicPr/>
          <p:nvPr/>
        </p:nvPicPr>
        <p:blipFill>
          <a:blip r:embed="rId2"/>
          <a:stretch/>
        </p:blipFill>
        <p:spPr>
          <a:xfrm>
            <a:off x="4951440" y="452520"/>
            <a:ext cx="2211480" cy="14763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5" descr="5321863-756x504.jpg"/>
          <p:cNvPicPr/>
          <p:nvPr/>
        </p:nvPicPr>
        <p:blipFill>
          <a:blip r:embed="rId3"/>
          <a:stretch/>
        </p:blipFill>
        <p:spPr>
          <a:xfrm>
            <a:off x="4110120" y="457200"/>
            <a:ext cx="981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7" name="Picture 9" descr="computer_snapping_finger250"/>
          <p:cNvPicPr/>
          <p:nvPr/>
        </p:nvPicPr>
        <p:blipFill>
          <a:blip r:embed="rId1"/>
          <a:stretch/>
        </p:blipFill>
        <p:spPr>
          <a:xfrm>
            <a:off x="762120" y="2286000"/>
            <a:ext cx="3733560" cy="2987640"/>
          </a:xfrm>
          <a:prstGeom prst="rect">
            <a:avLst/>
          </a:prstGeom>
          <a:ln w="0">
            <a:noFill/>
          </a:ln>
        </p:spPr>
      </p:pic>
      <p:pic>
        <p:nvPicPr>
          <p:cNvPr id="788" name="ClipArt Placeholder 8" descr="12493511-566x849.jpg"/>
          <p:cNvPicPr/>
          <p:nvPr/>
        </p:nvPicPr>
        <p:blipFill>
          <a:blip r:embed="rId2"/>
          <a:srcRect l="0" t="-22164" r="0" b="-22164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link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48320" y="25142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he </a:t>
            </a:r>
            <a:r>
              <a:rPr b="0" lang="en-US" sz="3600" spc="-1" strike="noStrike">
                <a:solidFill>
                  <a:srgbClr val="0000ff"/>
                </a:solidFill>
                <a:latin typeface="Century Gothic"/>
              </a:rPr>
              <a:t>link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nderlined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ifferent </a:t>
            </a:r>
            <a:r>
              <a:rPr b="0" lang="en-US" sz="3600" spc="-1" strike="noStrike">
                <a:solidFill>
                  <a:srgbClr val="0000ff"/>
                </a:solidFill>
                <a:latin typeface="Century Gothic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91" name="Picture 9" descr="41405D9BX2L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scroll   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3434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ve up and down on a WEB p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and drag the SCROLL BA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or </a:t>
            </a:r>
            <a:r>
              <a:rPr b="0" lang="en-US" sz="2400" spc="-1" strike="noStrike">
                <a:solidFill>
                  <a:srgbClr val="009900"/>
                </a:solidFill>
                <a:latin typeface="Century Gothic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rrow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94" name="Picture 4" descr=""/>
          <p:cNvPicPr/>
          <p:nvPr/>
        </p:nvPicPr>
        <p:blipFill>
          <a:blip r:embed="rId1"/>
          <a:srcRect l="65938" t="16690" r="0" b="0"/>
          <a:stretch/>
        </p:blipFill>
        <p:spPr>
          <a:xfrm>
            <a:off x="1295280" y="1905120"/>
            <a:ext cx="2421000" cy="4289400"/>
          </a:xfrm>
          <a:prstGeom prst="rect">
            <a:avLst/>
          </a:prstGeom>
          <a:ln w="0">
            <a:noFill/>
          </a:ln>
        </p:spPr>
      </p:pic>
      <p:sp>
        <p:nvSpPr>
          <p:cNvPr id="795" name="Line 6"/>
          <p:cNvSpPr/>
          <p:nvPr/>
        </p:nvSpPr>
        <p:spPr>
          <a:xfrm flipH="1" flipV="1">
            <a:off x="3715920" y="3123720"/>
            <a:ext cx="1236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7"/>
          <p:cNvSpPr/>
          <p:nvPr/>
        </p:nvSpPr>
        <p:spPr>
          <a:xfrm>
            <a:off x="3352680" y="1905120"/>
            <a:ext cx="5335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8"/>
          <p:cNvSpPr/>
          <p:nvPr/>
        </p:nvSpPr>
        <p:spPr>
          <a:xfrm>
            <a:off x="3352680" y="5867280"/>
            <a:ext cx="533520" cy="457200"/>
          </a:xfrm>
          <a:prstGeom prst="ellipse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edi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the way something look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dd to it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ake something away. (delete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rrect a mistak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Edit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dd to i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dog is barking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big</a:t>
            </a:r>
            <a:r>
              <a:rPr b="1" lang="en-US" sz="2000" spc="-1" strike="noStrike">
                <a:solidFill>
                  <a:srgbClr val="bbc0ac"/>
                </a:solidFill>
                <a:latin typeface="Century Gothic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hair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dog is barking 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loudly</a:t>
            </a:r>
            <a:r>
              <a:rPr b="1" lang="en-US" sz="2000" spc="-1" strike="noStrike">
                <a:solidFill>
                  <a:srgbClr val="800080"/>
                </a:solidFill>
                <a:latin typeface="Century Gothic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2" name="Picture 5" descr="hairypuppy"/>
          <p:cNvPicPr/>
          <p:nvPr/>
        </p:nvPicPr>
        <p:blipFill>
          <a:blip r:embed="rId1"/>
          <a:stretch/>
        </p:blipFill>
        <p:spPr>
          <a:xfrm>
            <a:off x="3200400" y="3886200"/>
            <a:ext cx="270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Edit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ake something away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big, hairy dog is barking loudly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2819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, hairy dog is barking loud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"/>
          <p:cNvSpPr/>
          <p:nvPr/>
        </p:nvSpPr>
        <p:spPr>
          <a:xfrm>
            <a:off x="1676520" y="31240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6" descr="hairypuppy"/>
          <p:cNvPicPr/>
          <p:nvPr/>
        </p:nvPicPr>
        <p:blipFill>
          <a:blip r:embed="rId1"/>
          <a:stretch/>
        </p:blipFill>
        <p:spPr>
          <a:xfrm>
            <a:off x="6215040" y="4038480"/>
            <a:ext cx="2700360" cy="253368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8"/>
          <p:cNvSpPr/>
          <p:nvPr/>
        </p:nvSpPr>
        <p:spPr>
          <a:xfrm>
            <a:off x="380880" y="396252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iry dog is barking loud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Edit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rrect a mistak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dog wos barking loudl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905120" y="2438280"/>
            <a:ext cx="609480" cy="38124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457200" y="3962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       barking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7" descr="hairypuppy"/>
          <p:cNvPicPr/>
          <p:nvPr/>
        </p:nvPicPr>
        <p:blipFill>
          <a:blip r:embed="rId1"/>
          <a:stretch/>
        </p:blipFill>
        <p:spPr>
          <a:xfrm>
            <a:off x="6248520" y="4114800"/>
            <a:ext cx="2700360" cy="25336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457200" y="3962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save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ERY IMPORTAN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Keep your chang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you EDIT, make sure you SAV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8:19:51Z</dcterms:created>
  <dc:creator>Jeremy Brueck</dc:creator>
  <dc:description/>
  <dc:language>en-US</dc:language>
  <cp:lastModifiedBy>Jeremy Brueck</cp:lastModifiedBy>
  <dcterms:modified xsi:type="dcterms:W3CDTF">2009-07-04T19:54:59Z</dcterms:modified>
  <cp:revision>10</cp:revision>
  <dc:subject/>
  <dc:title>Web 2.0 for Elementary Social Studies</dc:title>
</cp:coreProperties>
</file>